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4.png" ContentType="image/png"/>
  <Override PartName="/ppt/media/image31.png" ContentType="image/png"/>
  <Override PartName="/ppt/media/image29.png" ContentType="image/png"/>
  <Override PartName="/ppt/media/image6.gif" ContentType="image/gif"/>
  <Override PartName="/ppt/media/image9.png" ContentType="image/png"/>
  <Override PartName="/ppt/media/image7.png" ContentType="image/png"/>
  <Override PartName="/ppt/media/image32.gif" ContentType="image/gif"/>
  <Override PartName="/ppt/media/image25.png" ContentType="image/png"/>
  <Override PartName="/ppt/media/image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1.png" ContentType="image/png"/>
  <Override PartName="/ppt/media/image12.gif" ContentType="image/gif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gif" ContentType="image/gif"/>
  <Override PartName="/ppt/media/image20.png" ContentType="image/png"/>
  <Override PartName="/ppt/media/image17.png" ContentType="image/png"/>
  <Override PartName="/ppt/media/image18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16.png" ContentType="image/png"/>
  <Override PartName="/ppt/media/image23.gif" ContentType="image/gif"/>
  <Override PartName="/ppt/media/image3.gif" ContentType="image/gi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48B-B854-4B18-B44C-7A7DDF25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399-F0CD-4E80-85CC-EFD3A29E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3DD-575E-4036-8ABC-BAE5206A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DCF-1E1B-4E37-9C82-A5EACB5C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7FB0-BC65-4132-AAF4-F140BC70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7768-DF24-4966-8D1F-1A8F4C1F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A85B-CAAC-44CA-A405-F12C864D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DC29-04D1-40E1-9428-17118C29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AA55-E3AD-4AF8-9A6E-0AF20391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D669-C609-49A6-B707-89272312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6F08-4F84-42EC-83A2-F7763C71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585-5DCE-4C39-AFCA-DD234BAB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1036-86CC-40F1-828D-26C2689B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3415-392D-4C81-A024-3ED51FF8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CE9E-1FA6-45C6-8788-84FFB189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4819-8849-4A73-94B0-056E01D4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55C6-0BB9-4FEF-9760-A1793C6B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A1D-14D7-4F72-9DC8-B371A144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4A5-88D4-460F-9B07-1F147B8F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2A8-A42E-4F64-82EA-021996F7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DE9-B700-410A-B287-27780086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7BC-3753-4C9C-A9CB-0443B6BC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82D-F414-4E87-A688-00389125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992-5804-4465-81D3-B70463EC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AD24-6D58-47AF-8E6E-EA584D79C94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1558-5ED2-4B4C-8ED2-4985FDB2BC8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" Target="slide3.xml"/><Relationship Id="rId5" Type="http://schemas.openxmlformats.org/officeDocument/2006/relationships/image" Target="../media/image20.png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" Target="slide3.xml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23.gif"/><Relationship Id="rId5" Type="http://schemas.openxmlformats.org/officeDocument/2006/relationships/image" Target="../media/image6.gif"/><Relationship Id="rId6" Type="http://schemas.openxmlformats.org/officeDocument/2006/relationships/image" Target="../media/image24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ge.edu.ru/" TargetMode="External"/><Relationship Id="rId2" Type="http://schemas.openxmlformats.org/officeDocument/2006/relationships/hyperlink" Target="http://www.ege.mai.ru/" TargetMode="External"/><Relationship Id="rId3" Type="http://schemas.openxmlformats.org/officeDocument/2006/relationships/hyperlink" Target="http://reshuege.ru/?redir=1" TargetMode="External"/><Relationship Id="rId4" Type="http://schemas.openxmlformats.org/officeDocument/2006/relationships/hyperlink" Target="http://reshuege.ru/?redir=1" TargetMode="External"/><Relationship Id="rId5" Type="http://schemas.openxmlformats.org/officeDocument/2006/relationships/hyperlink" Target="http://reshuege.ru/?redir=1" TargetMode="External"/><Relationship Id="rId6" Type="http://schemas.openxmlformats.org/officeDocument/2006/relationships/hyperlink" Target="http://reshuege.ru/?redir=1" TargetMode="External"/><Relationship Id="rId7" Type="http://schemas.openxmlformats.org/officeDocument/2006/relationships/hyperlink" Target="http://reshuege.ru/?redir=1" TargetMode="External"/><Relationship Id="rId8" Type="http://schemas.openxmlformats.org/officeDocument/2006/relationships/hyperlink" Target="http://reshuege.ru/?redir=1" TargetMode="External"/><Relationship Id="rId9" Type="http://schemas.openxmlformats.org/officeDocument/2006/relationships/hyperlink" Target="http://reshuege.ru/?redir=1" TargetMode="External"/><Relationship Id="rId10" Type="http://schemas.openxmlformats.org/officeDocument/2006/relationships/hyperlink" Target="http://reshuege.ru/?redir=1" TargetMode="External"/><Relationship Id="rId11" Type="http://schemas.openxmlformats.org/officeDocument/2006/relationships/hyperlink" Target="http://www.internet-olimpiada.ru/" TargetMode="External"/><Relationship Id="rId12" Type="http://schemas.openxmlformats.org/officeDocument/2006/relationships/hyperlink" Target="http://www.internet-olimpiada.ru/" TargetMode="External"/><Relationship Id="rId13" Type="http://schemas.openxmlformats.org/officeDocument/2006/relationships/hyperlink" Target="http://www.internet-olimpiada.ru/" TargetMode="External"/><Relationship Id="rId14" Type="http://schemas.openxmlformats.org/officeDocument/2006/relationships/hyperlink" Target="http://www.internet-olimpiada.ru/" TargetMode="External"/><Relationship Id="rId15" Type="http://schemas.openxmlformats.org/officeDocument/2006/relationships/hyperlink" Target="http://www.internet-olimpiada.ru/" TargetMode="External"/><Relationship Id="rId16" Type="http://schemas.openxmlformats.org/officeDocument/2006/relationships/hyperlink" Target="http://www.internet-olimpiada.ru/" TargetMode="External"/><Relationship Id="rId17" Type="http://schemas.openxmlformats.org/officeDocument/2006/relationships/hyperlink" Target="http://www.internet-olimpiada.ru/" TargetMode="External"/><Relationship Id="rId18" Type="http://schemas.openxmlformats.org/officeDocument/2006/relationships/hyperlink" Target="http://olymp.ifmo.ru/" TargetMode="External"/><Relationship Id="rId19" Type="http://schemas.openxmlformats.org/officeDocument/2006/relationships/hyperlink" Target="http://www.egemetr.ru/" TargetMode="External"/><Relationship Id="rId20" Type="http://schemas.openxmlformats.org/officeDocument/2006/relationships/hyperlink" Target="http://www.energy-hope.ru/" TargetMode="External"/><Relationship Id="rId21" Type="http://schemas.openxmlformats.org/officeDocument/2006/relationships/hyperlink" Target="http://www.energy-hope.ru/" TargetMode="External"/><Relationship Id="rId22" Type="http://schemas.openxmlformats.org/officeDocument/2006/relationships/hyperlink" Target="http://www.energy-hope.ru/" TargetMode="External"/><Relationship Id="rId23" Type="http://schemas.openxmlformats.org/officeDocument/2006/relationships/hyperlink" Target="http://www.energy-hope.ru/" TargetMode="External"/><Relationship Id="rId24" Type="http://schemas.openxmlformats.org/officeDocument/2006/relationships/hyperlink" Target="http://www.energy-hope.ru/" TargetMode="External"/><Relationship Id="rId25" Type="http://schemas.openxmlformats.org/officeDocument/2006/relationships/hyperlink" Target="http://www.energy-hope.ru/" TargetMode="External"/><Relationship Id="rId26" Type="http://schemas.openxmlformats.org/officeDocument/2006/relationships/hyperlink" Target="http://www.energy-hope.ru/" TargetMode="External"/><Relationship Id="rId27" Type="http://schemas.openxmlformats.org/officeDocument/2006/relationships/hyperlink" Target="http://www.energy-hope.ru/" TargetMode="External"/><Relationship Id="rId28" Type="http://schemas.openxmlformats.org/officeDocument/2006/relationships/hyperlink" Target="http://www.energy-hope.ru/" TargetMode="External"/><Relationship Id="rId29" Type="http://schemas.openxmlformats.org/officeDocument/2006/relationships/hyperlink" Target="http://www.mccme.ru/ommo" TargetMode="External"/><Relationship Id="rId30" Type="http://schemas.openxmlformats.org/officeDocument/2006/relationships/hyperlink" Target="http://www.mami.ru/storage/1679091c5a880faf6fb5e6087eb1b2dc/files/2013/olimp/olimp916.pdf" TargetMode="External"/><Relationship Id="rId31" Type="http://schemas.openxmlformats.org/officeDocument/2006/relationships/hyperlink" Target="http://www.mami.ru/index.php?ommo2013" TargetMode="External"/><Relationship Id="rId32" Type="http://schemas.openxmlformats.org/officeDocument/2006/relationships/hyperlink" Target="http://www.mami.ru/index.php?ommo2013" TargetMode="External"/><Relationship Id="rId33" Type="http://schemas.openxmlformats.org/officeDocument/2006/relationships/hyperlink" Target="http://www.mami.ru/index.php?ommo2013" TargetMode="External"/><Relationship Id="rId34" Type="http://schemas.openxmlformats.org/officeDocument/2006/relationships/hyperlink" Target="http://www.mami.ru/index.php?ommo2013" TargetMode="External"/><Relationship Id="rId35" Type="http://schemas.openxmlformats.org/officeDocument/2006/relationships/hyperlink" Target="http://www.mami.ru/index.php?ommo2013" TargetMode="External"/><Relationship Id="rId36" Type="http://schemas.openxmlformats.org/officeDocument/2006/relationships/hyperlink" Target="http://www.mami.ru/index.php?ommo2013" TargetMode="External"/><Relationship Id="rId37" Type="http://schemas.openxmlformats.org/officeDocument/2006/relationships/hyperlink" Target="http://www.mami.ru/index.php?ommo2013" TargetMode="External"/><Relationship Id="rId38" Type="http://schemas.openxmlformats.org/officeDocument/2006/relationships/hyperlink" Target="http://www.mami.ru/index.php?ommo2013" TargetMode="External"/><Relationship Id="rId39" Type="http://schemas.openxmlformats.org/officeDocument/2006/relationships/hyperlink" Target="http://www.mami.ru/index.php?ommo2013" TargetMode="External"/><Relationship Id="rId40" Type="http://schemas.openxmlformats.org/officeDocument/2006/relationships/hyperlink" Target="http://www.mami.ru/index.php?ommo2013" TargetMode="External"/><Relationship Id="rId41" Type="http://schemas.openxmlformats.org/officeDocument/2006/relationships/hyperlink" Target="http://www.mami.ru/index.php?ommo2013" TargetMode="External"/><Relationship Id="rId42" Type="http://schemas.openxmlformats.org/officeDocument/2006/relationships/hyperlink" Target="http://www.mami.ru/index.php?ommo2013" TargetMode="External"/><Relationship Id="rId43" Type="http://schemas.openxmlformats.org/officeDocument/2006/relationships/hyperlink" Target="http://www.mami.ru/index.php?ommo2013" TargetMode="External"/><Relationship Id="rId44" Type="http://schemas.openxmlformats.org/officeDocument/2006/relationships/hyperlink" Target="http://www.mami.ru/index.php?ommo2013" TargetMode="External"/><Relationship Id="rId45" Type="http://schemas.openxmlformats.org/officeDocument/2006/relationships/hyperlink" Target="http://www.muctr.ru/entrant/exam/" TargetMode="External"/><Relationship Id="rId46" Type="http://schemas.openxmlformats.org/officeDocument/2006/relationships/hyperlink" Target="http://www.priem.mirea.ru/olymp/in-mirea/step-to-the-future/math" TargetMode="External"/><Relationship Id="rId47" Type="http://schemas.openxmlformats.org/officeDocument/2006/relationships/hyperlink" Target="http://www.mstuca.ru/abitur/olympics/?ELEMENT_ID=8939" TargetMode="External"/><Relationship Id="rId48" Type="http://schemas.openxmlformats.org/officeDocument/2006/relationships/hyperlink" Target="https://org.mephi.ru/" TargetMode="External"/><Relationship Id="rId49" Type="http://schemas.openxmlformats.org/officeDocument/2006/relationships/image" Target="../media/image6.gif"/><Relationship Id="rId50" Type="http://schemas.openxmlformats.org/officeDocument/2006/relationships/image" Target="../media/image6.gif"/><Relationship Id="rId51" Type="http://schemas.openxmlformats.org/officeDocument/2006/relationships/image" Target="../media/image25.png"/><Relationship Id="rId52" Type="http://schemas.openxmlformats.org/officeDocument/2006/relationships/image" Target="../media/image18.gif"/><Relationship Id="rId5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5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30.gif"/><Relationship Id="rId11" Type="http://schemas.openxmlformats.org/officeDocument/2006/relationships/image" Target="../media/image31.png"/><Relationship Id="rId12" Type="http://schemas.openxmlformats.org/officeDocument/2006/relationships/image" Target="../media/image3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slide" Target="slide10.xml"/><Relationship Id="rId7" Type="http://schemas.openxmlformats.org/officeDocument/2006/relationships/image" Target="../media/image8.png"/><Relationship Id="rId8" Type="http://schemas.openxmlformats.org/officeDocument/2006/relationships/slide" Target="slide11.xml"/><Relationship Id="rId9" Type="http://schemas.openxmlformats.org/officeDocument/2006/relationships/image" Target="../media/image9.png"/><Relationship Id="rId10" Type="http://schemas.openxmlformats.org/officeDocument/2006/relationships/slide" Target="slide15.xml"/><Relationship Id="rId11" Type="http://schemas.openxmlformats.org/officeDocument/2006/relationships/image" Target="../media/image10.png"/><Relationship Id="rId12" Type="http://schemas.openxmlformats.org/officeDocument/2006/relationships/slide" Target="slide17.xml"/><Relationship Id="rId13" Type="http://schemas.openxmlformats.org/officeDocument/2006/relationships/image" Target="../media/image11.png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3.png"/><Relationship Id="rId20" Type="http://schemas.openxmlformats.org/officeDocument/2006/relationships/slide" Target="slide18.xml"/><Relationship Id="rId21" Type="http://schemas.openxmlformats.org/officeDocument/2006/relationships/image" Target="../media/image14.png"/><Relationship Id="rId22" Type="http://schemas.openxmlformats.org/officeDocument/2006/relationships/image" Target="../media/image15.gi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6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7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7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7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8.gif"/><Relationship Id="rId5" Type="http://schemas.openxmlformats.org/officeDocument/2006/relationships/slide" Target="slide3.xm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304920" y="2286000"/>
            <a:ext cx="856908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f01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3333cc"/>
                  </a:outerShdw>
                </a:effectLst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ffcf01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3333cc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928960" y="272880"/>
            <a:ext cx="575784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МКОУ Барсовкая СОШ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Киржачского района  Владимирской обла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28520"/>
            <a:ext cx="83296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Monotype Corsiva"/>
              </a:rPr>
              <a:t>Элективный кур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«Математик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для поступающих во ВТУЗы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8" descr="C:\Documents and Settings\Loner\Рабочий стол\ПРОФИ XXI\СОВА_1.jpg"/>
          <p:cNvPicPr/>
          <p:nvPr/>
        </p:nvPicPr>
        <p:blipFill>
          <a:blip r:embed="rId1"/>
          <a:stretch/>
        </p:blipFill>
        <p:spPr>
          <a:xfrm>
            <a:off x="1322280" y="-109440"/>
            <a:ext cx="1865520" cy="2146320"/>
          </a:xfrm>
          <a:prstGeom prst="rect">
            <a:avLst/>
          </a:prstGeom>
          <a:ln w="0">
            <a:noFill/>
          </a:ln>
        </p:spPr>
      </p:pic>
      <p:sp>
        <p:nvSpPr>
          <p:cNvPr id="104" name="Текст 11"/>
          <p:cNvSpPr/>
          <p:nvPr/>
        </p:nvSpPr>
        <p:spPr>
          <a:xfrm>
            <a:off x="3214800" y="4000680"/>
            <a:ext cx="52578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Автор: </a:t>
            </a:r>
            <a:r>
              <a:rPr b="1" lang="ru-RU" sz="2800" spc="-1" strike="noStrike">
                <a:solidFill>
                  <a:srgbClr val="007254"/>
                </a:solidFill>
                <a:latin typeface="Monotype Corsiva"/>
              </a:rPr>
              <a:t>Боярская Мария Николае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Monotype Corsiva"/>
              </a:rPr>
              <a:t>учитель математики  1 категори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Monotype Corsiva"/>
              </a:rPr>
              <a:t>МКОУ Барсовская СОШ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Monotype Corsiva"/>
              </a:rPr>
              <a:t>Киржачского райо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Monotype Corsiva"/>
              </a:rPr>
              <a:t>Владимирской обла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nboyar@yandex.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Текст 11"/>
          <p:cNvSpPr/>
          <p:nvPr/>
        </p:nvSpPr>
        <p:spPr>
          <a:xfrm>
            <a:off x="357120" y="5929200"/>
            <a:ext cx="8329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254"/>
                </a:solidFill>
                <a:latin typeface="Monotype Corsiva"/>
              </a:rPr>
              <a:t>2013 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30" descr="http://animashky.ru/flist/obprirod/3/6.gif"/>
          <p:cNvPicPr/>
          <p:nvPr/>
        </p:nvPicPr>
        <p:blipFill>
          <a:blip r:embed="rId2"/>
          <a:stretch/>
        </p:blipFill>
        <p:spPr>
          <a:xfrm>
            <a:off x="790560" y="214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0" descr="http://animashky.ru/flist/obprirod/3/6.gif"/>
          <p:cNvPicPr/>
          <p:nvPr/>
        </p:nvPicPr>
        <p:blipFill>
          <a:blip r:embed="rId3"/>
          <a:stretch/>
        </p:blipFill>
        <p:spPr>
          <a:xfrm>
            <a:off x="3071880" y="214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http://animashky.ru/flist/obprirod/3/6.gif"/>
          <p:cNvPicPr/>
          <p:nvPr/>
        </p:nvPicPr>
        <p:blipFill>
          <a:blip r:embed="rId4"/>
          <a:stretch/>
        </p:blipFill>
        <p:spPr>
          <a:xfrm>
            <a:off x="2004840" y="1928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4" descr="http://animashky.ru/flist/obprirod/3/34.gif"/>
          <p:cNvPicPr/>
          <p:nvPr/>
        </p:nvPicPr>
        <p:blipFill>
          <a:blip r:embed="rId5"/>
          <a:stretch/>
        </p:blipFill>
        <p:spPr>
          <a:xfrm>
            <a:off x="3071880" y="1071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http://animashky.ru/flist/obprirod/3/34.gif"/>
          <p:cNvPicPr/>
          <p:nvPr/>
        </p:nvPicPr>
        <p:blipFill>
          <a:blip r:embed="rId6"/>
          <a:stretch/>
        </p:blipFill>
        <p:spPr>
          <a:xfrm>
            <a:off x="1000080" y="9288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s18.rimg.info/9ac07dee6a4539259175642746a07522.gif"/>
          <p:cNvPicPr/>
          <p:nvPr/>
        </p:nvPicPr>
        <p:blipFill>
          <a:blip r:embed="rId7"/>
          <a:stretch/>
        </p:blipFill>
        <p:spPr>
          <a:xfrm>
            <a:off x="2000160" y="6429240"/>
            <a:ext cx="5072040" cy="27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6" descr="http://animashky.ru/flist/obprirod/3/19.gif"/>
          <p:cNvPicPr/>
          <p:nvPr/>
        </p:nvPicPr>
        <p:blipFill>
          <a:blip r:embed="rId8"/>
          <a:stretch/>
        </p:blipFill>
        <p:spPr>
          <a:xfrm>
            <a:off x="2928960" y="578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6" descr="http://animashky.ru/flist/obprirod/3/19.gif"/>
          <p:cNvPicPr/>
          <p:nvPr/>
        </p:nvPicPr>
        <p:blipFill>
          <a:blip r:embed="rId9"/>
          <a:stretch/>
        </p:blipFill>
        <p:spPr>
          <a:xfrm>
            <a:off x="5072040" y="5786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18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75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356760"/>
            <a:ext cx="77929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  <a:ea typeface="Arial"/>
              </a:rPr>
              <a:t>Содержание програм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2017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Алгебраические уравнения и неравенства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1 ча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Планиметрия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2 ча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Тригонометрические уравнения, системы и неравенства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0 ча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Прогрессии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4 ча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Стереометрия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9 ча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. Тождественные преобразования алгебраических выражений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3 ча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. Показательные и логарифмические уравнения, системы  неравенства –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1 ча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. Функции и их графики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8 ча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428920" y="1357200"/>
            <a:ext cx="5072040" cy="276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357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858080" y="28584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209" name="Управляющая кнопка: настраиваемая 8"/>
          <p:cNvGrpSpPr/>
          <p:nvPr/>
        </p:nvGrpSpPr>
        <p:grpSpPr>
          <a:xfrm>
            <a:off x="5565600" y="5803920"/>
            <a:ext cx="3724560" cy="1004760"/>
            <a:chOff x="5565600" y="5803920"/>
            <a:chExt cx="3724560" cy="1004760"/>
          </a:xfrm>
        </p:grpSpPr>
        <p:pic>
          <p:nvPicPr>
            <p:cNvPr id="210" name="Управляющая кнопка: настраиваемая 8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565600" y="5803920"/>
              <a:ext cx="3724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857920" y="6072120"/>
              <a:ext cx="3143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Структура програм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2" name="Picture 22" descr="Анимация Стрелки"/>
          <p:cNvPicPr/>
          <p:nvPr/>
        </p:nvPicPr>
        <p:blipFill>
          <a:blip r:embed="rId6"/>
          <a:stretch/>
        </p:blipFill>
        <p:spPr>
          <a:xfrm>
            <a:off x="4643280" y="6143760"/>
            <a:ext cx="1143000" cy="237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400"/>
                            </p:stCondLst>
                            <p:childTnLst>
                              <p:par>
                                <p:cTn id="4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100"/>
                            </p:stCondLst>
                            <p:childTnLst>
                              <p:par>
                                <p:cTn id="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Управляющая кнопка: настраиваемая 8"/>
          <p:cNvGrpSpPr/>
          <p:nvPr/>
        </p:nvGrpSpPr>
        <p:grpSpPr>
          <a:xfrm>
            <a:off x="7778880" y="6089760"/>
            <a:ext cx="1152360" cy="1006200"/>
            <a:chOff x="7778880" y="6089760"/>
            <a:chExt cx="1152360" cy="1006200"/>
          </a:xfrm>
        </p:grpSpPr>
        <p:pic>
          <p:nvPicPr>
            <p:cNvPr id="214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78880" y="6089760"/>
              <a:ext cx="11523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8072280" y="635796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чебно-тематический пл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43000" y="789120"/>
          <a:ext cx="7772400" cy="5500440"/>
        </p:xfrm>
        <a:graphic>
          <a:graphicData uri="http://schemas.openxmlformats.org/drawingml/2006/table">
            <a:tbl>
              <a:tblPr/>
              <a:tblGrid>
                <a:gridCol w="317520"/>
                <a:gridCol w="5143320"/>
                <a:gridCol w="928800"/>
                <a:gridCol w="1382760"/>
              </a:tblGrid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ции учеб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ждественные преобразования алгебраических выражений – 3  ч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ифметические действ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образования алгебраических выраж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работа №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гебраические  уравнения  и  неравенства – 11 ча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гебраические   уравнения   с   одной   переменной Равносильность   уравнений.  О Д 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я   высших   степе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я   с   параметр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ы   урав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ы   уравнений   с   параметр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метрические уравнения и системы  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  на   составление  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, КК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ерства   вида   |f(х)|&lt;|g(х)|,   |f(х)|&gt;g(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  неравен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, КК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работа №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иметрия – 12 ча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бие   треуг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  площадей   подобных   треуг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8" name="Picture 8" descr="http://s18.rimg.info/9ac07dee6a4539259175642746a07522.gif"/>
          <p:cNvPicPr/>
          <p:nvPr/>
        </p:nvPicPr>
        <p:blipFill>
          <a:blip r:embed="rId2"/>
          <a:stretch/>
        </p:blipFill>
        <p:spPr>
          <a:xfrm>
            <a:off x="2071800" y="6438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12142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http://animashky.ru/flist/obprirod/3/19.gif"/>
          <p:cNvPicPr/>
          <p:nvPr/>
        </p:nvPicPr>
        <p:blipFill>
          <a:blip r:embed="rId4"/>
          <a:stretch/>
        </p:blipFill>
        <p:spPr>
          <a:xfrm>
            <a:off x="8001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4" descr="http://li-web.ru/"/>
          <p:cNvPicPr/>
          <p:nvPr/>
        </p:nvPicPr>
        <p:blipFill>
          <a:blip r:embed="rId5"/>
          <a:stretch/>
        </p:blipFill>
        <p:spPr>
          <a:xfrm>
            <a:off x="8143920" y="6429240"/>
            <a:ext cx="361800" cy="295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600"/>
                            </p:stCondLst>
                            <p:childTnLst>
                              <p:par>
                                <p:cTn id="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Управляющая кнопка: настраиваемая 7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223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чебно-тематический пл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71720" y="1092240"/>
          <a:ext cx="7772400" cy="5127480"/>
        </p:xfrm>
        <a:graphic>
          <a:graphicData uri="http://schemas.openxmlformats.org/drawingml/2006/table">
            <a:tbl>
              <a:tblPr/>
              <a:tblGrid>
                <a:gridCol w="317520"/>
                <a:gridCol w="253800"/>
                <a:gridCol w="4889520"/>
                <a:gridCol w="928800"/>
                <a:gridCol w="1382760"/>
              </a:tblGrid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ции учеб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ойства   медиан   и   биссектр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ойства   касательных,  хорд,  секу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писанные   и   описанные   четырехуголь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оремы   косинусов   сину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нение   тригонометрии   к   решению   геометрических  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ол   повор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ощадь   треуголь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ощадь   выпуклых   многоуго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сунок   в   геометрической   задач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адачи   из   вариантов   вступительных   экзаме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игонометрические уравнения, системы и неравенства – 10 ча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-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решения тригонометрических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, 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ые   у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  тригонометрических  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гонометрические   нерав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,   содержащие   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  уравнений,   содержащие   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енства,   содержащие   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,КК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8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27" name="Picture 8" descr="http://s18.rimg.info/9ac07dee6a4539259175642746a07522.gif"/>
          <p:cNvPicPr/>
          <p:nvPr/>
        </p:nvPicPr>
        <p:blipFill>
          <a:blip r:embed="rId2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12142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6" descr="http://animashky.ru/flist/obprirod/3/19.gif"/>
          <p:cNvPicPr/>
          <p:nvPr/>
        </p:nvPicPr>
        <p:blipFill>
          <a:blip r:embed="rId4"/>
          <a:stretch/>
        </p:blipFill>
        <p:spPr>
          <a:xfrm>
            <a:off x="8001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Управляющая кнопка: настраиваемая 7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232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чебно-тематический пл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000080" y="857160"/>
          <a:ext cx="7772400" cy="5184720"/>
        </p:xfrm>
        <a:graphic>
          <a:graphicData uri="http://schemas.openxmlformats.org/drawingml/2006/table">
            <a:tbl>
              <a:tblPr/>
              <a:tblGrid>
                <a:gridCol w="317520"/>
                <a:gridCol w="5143680"/>
                <a:gridCol w="928440"/>
                <a:gridCol w="13827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ции учеб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рессии – 4 ч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едова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ифметическая прогресс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ометрическая прогресс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ереометрия – 9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ол   между   двумя   прямыми. Угол   между   двумя   плоскостями. Угол   между   прямой   и   плоск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стояние   от   точки   до   прямой. Расстояние   от   точки   до   плос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е   плос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ллелепипед. К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ма. Пирами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линдр. Кону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фера. Вписанные и описанные многогранн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ла вращ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ные и логарифмические уравнения, системы, неравенства – 11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гарифмирование   и   потенц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ьные   урав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8" descr="http://s18.rimg.info/9ac07dee6a4539259175642746a07522.gif"/>
          <p:cNvPicPr/>
          <p:nvPr/>
        </p:nvPicPr>
        <p:blipFill>
          <a:blip r:embed="rId2"/>
          <a:stretch/>
        </p:blipFill>
        <p:spPr>
          <a:xfrm>
            <a:off x="2071800" y="6438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12142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6" descr="http://animashky.ru/flist/obprirod/3/19.gif"/>
          <p:cNvPicPr/>
          <p:nvPr/>
        </p:nvPicPr>
        <p:blipFill>
          <a:blip r:embed="rId4"/>
          <a:stretch/>
        </p:blipFill>
        <p:spPr>
          <a:xfrm>
            <a:off x="8001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чебно-тематический пл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00160" y="6429240"/>
            <a:ext cx="5072040" cy="276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2" descr="Анимация Стрелки"/>
          <p:cNvPicPr/>
          <p:nvPr/>
        </p:nvPicPr>
        <p:blipFill>
          <a:blip r:embed="rId2"/>
          <a:stretch/>
        </p:blipFill>
        <p:spPr>
          <a:xfrm>
            <a:off x="4572000" y="6048360"/>
            <a:ext cx="1143000" cy="23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000080" y="857160"/>
          <a:ext cx="7772400" cy="5002200"/>
        </p:xfrm>
        <a:graphic>
          <a:graphicData uri="http://schemas.openxmlformats.org/drawingml/2006/table">
            <a:tbl>
              <a:tblPr/>
              <a:tblGrid>
                <a:gridCol w="571680"/>
                <a:gridCol w="4889520"/>
                <a:gridCol w="928440"/>
                <a:gridCol w="13827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ции учеб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гарифмические   урав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ы   урав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я,   содержащие   пара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ьные   нераве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гарифмические   нераве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  интерва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  интервалов   для   сложной  экс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шение   логарифмических   неравенств,   содержащих   пара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ункции  и  их  графики – 8 ча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сть   определения, область значения   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тные   и   нечетные,   периодические 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симпт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ание   (убывание)   функции. Критические   точки   функции,   максимумы   и   миниму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роение   графиков   фун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ыскание наибольших (наименьших) значений  вел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-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щита научно-исследовательских раб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ч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44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1143000" y="475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6" descr="http://animashky.ru/flist/obprirod/3/19.gif"/>
          <p:cNvPicPr/>
          <p:nvPr/>
        </p:nvPicPr>
        <p:blipFill>
          <a:blip r:embed="rId4"/>
          <a:stretch/>
        </p:blipFill>
        <p:spPr>
          <a:xfrm>
            <a:off x="8072280" y="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246" name="Управляющая кнопка: настраиваемая 10"/>
          <p:cNvGrpSpPr/>
          <p:nvPr/>
        </p:nvGrpSpPr>
        <p:grpSpPr>
          <a:xfrm>
            <a:off x="5492880" y="5730840"/>
            <a:ext cx="3724200" cy="1011240"/>
            <a:chOff x="5492880" y="5730840"/>
            <a:chExt cx="3724200" cy="1011240"/>
          </a:xfrm>
        </p:grpSpPr>
        <p:pic>
          <p:nvPicPr>
            <p:cNvPr id="247" name="Управляющая кнопка: настраиваемая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492880" y="5730840"/>
              <a:ext cx="37242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786280" y="6000840"/>
              <a:ext cx="31435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Структура програм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edg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999720"/>
            <a:ext cx="8454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. Александров А.Д. Геометрия для 11 класса. Учебное пособие для учащихся школ  и  классов с углубленным изучением математики.- М.: Просвещение, 2000г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2. Алексашенко. 140 билетов по математике: Учебное пособие для  поступающих в МГУДТ. – М.: ИИЦ МГУДТ, 2006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3. Билеты письменных вступительных экзаменов в МФТИ по математике (1994-2001г.)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4. Виленкин Н.Я. Алгебра и математический анализ.11класс. Учебное пособие для учащихся школ и классов с углубленным изучением математики.-М.:Просвещение,2000г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5. Галицкий М.Л. Углубленное изучение алгебры и математического анализа.- М.: Просвещение, 1997г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6. Говоров В. М., Дыбов П. Т., Мирошин Н. В., Смирнова С. Ф. Сборник конкурсных задач по математике (с методическими указаниями и решениями): Учебн. пособие. – 2-е изд. – М.: Наука. Гл. ред. физ.-мат. лит., 1986. – 384 с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7. Образцы заданий по математике письменных вступительных экзаменов для абитуриентов, поступающих в Российский государственный торгово-экономический университет (2004 - 2011 гг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8. Паповский В.М. Углублённое изучение геометрии в 10-11 классах.- М.: Просвещение, 1993 г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9. Сканави М. И. сборник задач по математике для поступающих во ВТУЗы. – М.: ООО «Издательство Оникс»: ООО «Издательство «Мир и образование», 2008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0. Шабунин М.И. Пособие по математике для поступающих в вузы.- М.: Лаборатория  Базовых Знаний, 200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1. Шклярский Д.О. Избранные  задачи  и  теоремы  элементарной  математики. Геометрия (планиметрия).- М.: Физматлит, 200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2. Шклярский Д.О. Избранные  задачи  и  теоремы  элементарной  математики.  Геометрия  (стереометрия). – М.: Физматлит, 200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3. Шклярский Д.О. Избранные  задачи  и  теоремы  элементарной  математики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4. Яковлев Г.Н. Пособие по математике для поступающих в вузы.- М.: Физматлит,2001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21472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25002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66438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6" descr="http://animashky.ru/flist/3dhobbie/6/62.gif"/>
          <p:cNvPicPr/>
          <p:nvPr/>
        </p:nvPicPr>
        <p:blipFill>
          <a:blip r:embed="rId4"/>
          <a:stretch/>
        </p:blipFill>
        <p:spPr>
          <a:xfrm>
            <a:off x="71280" y="4143240"/>
            <a:ext cx="1257480" cy="2095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6" descr="http://animashky.ru/flist/obprirod/3/19.gif"/>
          <p:cNvPicPr/>
          <p:nvPr/>
        </p:nvPicPr>
        <p:blipFill>
          <a:blip r:embed="rId5"/>
          <a:stretch/>
        </p:blipFill>
        <p:spPr>
          <a:xfrm>
            <a:off x="2500200" y="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256" name="Управляющая кнопка: настраиваемая 10"/>
          <p:cNvGrpSpPr/>
          <p:nvPr/>
        </p:nvGrpSpPr>
        <p:grpSpPr>
          <a:xfrm>
            <a:off x="7778880" y="6016680"/>
            <a:ext cx="1152360" cy="1012680"/>
            <a:chOff x="7778880" y="6016680"/>
            <a:chExt cx="1152360" cy="1012680"/>
          </a:xfrm>
        </p:grpSpPr>
        <p:pic>
          <p:nvPicPr>
            <p:cNvPr id="257" name="Управляющая кнопка: настраиваемая 10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78880" y="6016680"/>
              <a:ext cx="11523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072280" y="6286680"/>
              <a:ext cx="5716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9" name="Picture 24" descr="http://li-web.ru/"/>
          <p:cNvPicPr/>
          <p:nvPr/>
        </p:nvPicPr>
        <p:blipFill>
          <a:blip r:embed="rId7"/>
          <a:stretch/>
        </p:blipFill>
        <p:spPr>
          <a:xfrm>
            <a:off x="8210520" y="635796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95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950"/>
                            </p:stCondLst>
                            <p:childTnLst>
                              <p:par>
                                <p:cTn id="5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950"/>
                            </p:stCondLst>
                            <p:childTnLst>
                              <p:par>
                                <p:cTn id="5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950"/>
                            </p:stCondLst>
                            <p:childTnLst>
                              <p:par>
                                <p:cTn id="5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950"/>
                            </p:stCondLst>
                            <p:childTnLst>
                              <p:par>
                                <p:cTn id="5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95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950"/>
                            </p:stCondLst>
                            <p:childTnLst>
                              <p:par>
                                <p:cTn id="5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8950"/>
                            </p:stCondLst>
                            <p:childTnLst>
                              <p:par>
                                <p:cTn id="5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9950"/>
                            </p:stCondLst>
                            <p:childTnLst>
                              <p:par>
                                <p:cTn id="5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950"/>
                            </p:stCondLst>
                            <p:childTnLst>
                              <p:par>
                                <p:cTn id="6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1950"/>
                            </p:stCondLst>
                            <p:childTnLst>
                              <p:par>
                                <p:cTn id="6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2950"/>
                            </p:stCondLst>
                            <p:childTnLst>
                              <p:par>
                                <p:cTn id="6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950"/>
                            </p:stCondLst>
                            <p:childTnLst>
                              <p:par>
                                <p:cTn id="6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4950"/>
                            </p:stCondLst>
                            <p:childTnLst>
                              <p:par>
                                <p:cTn id="6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Интернет-источники для </a:t>
            </a: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Online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тестирования, подготовки к экзаменам, олимпиадам, конкурсам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182240" y="201780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http://www.ege.edu.ru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ege.mai.ru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"/>
              </a:rPr>
              <a:t>http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"/>
              </a:rPr>
              <a:t>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5"/>
              </a:rPr>
              <a:t>reshuege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6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7"/>
              </a:rPr>
              <a:t>ru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8"/>
              </a:rPr>
              <a:t>/?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9"/>
              </a:rPr>
              <a:t>redir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0"/>
              </a:rPr>
              <a:t>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1"/>
              </a:rPr>
              <a:t>www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2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3"/>
              </a:rPr>
              <a:t>internet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4"/>
              </a:rPr>
              <a:t>-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5"/>
              </a:rPr>
              <a:t>olimpiada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6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7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8"/>
              </a:rPr>
              <a:t>http://olymp.ifmo.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9"/>
              </a:rPr>
              <a:t>www.egemetr.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0"/>
              </a:rPr>
              <a:t>http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1"/>
              </a:rPr>
              <a:t>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2"/>
              </a:rPr>
              <a:t>www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3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4"/>
              </a:rPr>
              <a:t>energy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5"/>
              </a:rPr>
              <a:t>-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6"/>
              </a:rPr>
              <a:t>hope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7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8"/>
              </a:rPr>
              <a:t>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9"/>
              </a:rPr>
              <a:t>http://www.mccme.ru/omm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0"/>
              </a:rPr>
              <a:t>Перечень олимпиад школьников на 2012/2013 учебный год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» под №22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Приказ Минобрнауки от 14 ноября 2012 г. N 916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1"/>
              </a:rPr>
              <a:t>http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2"/>
              </a:rPr>
              <a:t>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3"/>
              </a:rPr>
              <a:t>www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4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5"/>
              </a:rPr>
              <a:t>mami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6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7"/>
              </a:rPr>
              <a:t>ru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8"/>
              </a:rPr>
              <a:t>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9"/>
              </a:rPr>
              <a:t>index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0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1"/>
              </a:rPr>
              <a:t>php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2"/>
              </a:rPr>
              <a:t>?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3"/>
              </a:rPr>
              <a:t>ommo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4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5"/>
              </a:rPr>
              <a:t>http://www.muctr.ru/entrant/exa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6"/>
              </a:rPr>
              <a:t>http://www.priem.mirea.ru/olymp/in-mirea/step-to-the-future/ma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7"/>
              </a:rPr>
              <a:t>http://www.mstuca.ru/abitur/olympics/?ELEMENT_ID=893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8"/>
              </a:rPr>
              <a:t>https://org.mephi.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mephi.ru/entrant/olimpiads/rosatom/Pobediteli/podgotovka.ph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36" descr="http://animashky.ru/flist/obprirod/3/19.gif"/>
          <p:cNvPicPr/>
          <p:nvPr/>
        </p:nvPicPr>
        <p:blipFill>
          <a:blip r:embed="rId49"/>
          <a:stretch/>
        </p:blipFill>
        <p:spPr>
          <a:xfrm>
            <a:off x="857160" y="5000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6" descr="http://animashky.ru/flist/obprirod/3/19.gif"/>
          <p:cNvPicPr/>
          <p:nvPr/>
        </p:nvPicPr>
        <p:blipFill>
          <a:blip r:embed="rId50"/>
          <a:stretch/>
        </p:blipFill>
        <p:spPr>
          <a:xfrm>
            <a:off x="8191440" y="50004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264" name="Управляющая кнопка: настраиваемая 6"/>
          <p:cNvGrpSpPr/>
          <p:nvPr/>
        </p:nvGrpSpPr>
        <p:grpSpPr>
          <a:xfrm>
            <a:off x="5565600" y="6016680"/>
            <a:ext cx="3724560" cy="938160"/>
            <a:chOff x="5565600" y="6016680"/>
            <a:chExt cx="3724560" cy="938160"/>
          </a:xfrm>
        </p:grpSpPr>
        <p:pic>
          <p:nvPicPr>
            <p:cNvPr id="265" name="Управляющая кнопка: настраиваемая 6" descr=""/>
            <p:cNvPicPr/>
            <p:nvPr/>
          </p:nvPicPr>
          <p:blipFill>
            <a:blip r:embed="rId51"/>
            <a:stretch/>
          </p:blipFill>
          <p:spPr>
            <a:xfrm>
              <a:off x="5565600" y="6016680"/>
              <a:ext cx="3724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857920" y="6286680"/>
              <a:ext cx="31431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Структура програм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7" name="Picture 22" descr="Анимация Стрелки"/>
          <p:cNvPicPr/>
          <p:nvPr/>
        </p:nvPicPr>
        <p:blipFill>
          <a:blip r:embed="rId52"/>
          <a:stretch/>
        </p:blipFill>
        <p:spPr>
          <a:xfrm>
            <a:off x="4786200" y="6334200"/>
            <a:ext cx="1143000" cy="237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илож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182600" y="2017800"/>
            <a:ext cx="7772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Контрольные раб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амостоятельные раб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Текущие и итоговые тес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ематика научно-исследовательских раб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Раздаточный матери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36" descr="http://animashky.ru/flist/obprirod/3/19.gif"/>
          <p:cNvPicPr/>
          <p:nvPr/>
        </p:nvPicPr>
        <p:blipFill>
          <a:blip r:embed="rId1"/>
          <a:stretch/>
        </p:blipFill>
        <p:spPr>
          <a:xfrm>
            <a:off x="24764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6643800" y="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272" name="Управляющая кнопка: настраиваемая 5"/>
          <p:cNvGrpSpPr/>
          <p:nvPr/>
        </p:nvGrpSpPr>
        <p:grpSpPr>
          <a:xfrm>
            <a:off x="420840" y="5089680"/>
            <a:ext cx="4078080" cy="939600"/>
            <a:chOff x="420840" y="5089680"/>
            <a:chExt cx="4078080" cy="939600"/>
          </a:xfrm>
        </p:grpSpPr>
        <p:pic>
          <p:nvPicPr>
            <p:cNvPr id="273" name="Управляющая кнопка: настраиваемая 5" descr=""/>
            <p:cNvPicPr/>
            <p:nvPr/>
          </p:nvPicPr>
          <p:blipFill>
            <a:blip r:embed="rId3"/>
            <a:stretch/>
          </p:blipFill>
          <p:spPr>
            <a:xfrm>
              <a:off x="420840" y="5089680"/>
              <a:ext cx="40780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14240" y="5357880"/>
              <a:ext cx="3500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Структура програм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" name="Управляющая кнопка: настраиваемая 6"/>
          <p:cNvGrpSpPr/>
          <p:nvPr/>
        </p:nvGrpSpPr>
        <p:grpSpPr>
          <a:xfrm>
            <a:off x="6138720" y="5089680"/>
            <a:ext cx="2505240" cy="939600"/>
            <a:chOff x="6138720" y="5089680"/>
            <a:chExt cx="2505240" cy="939600"/>
          </a:xfrm>
        </p:grpSpPr>
        <p:pic>
          <p:nvPicPr>
            <p:cNvPr id="276" name="Управляющая кнопка: настраиваемая 6" descr=""/>
            <p:cNvPicPr/>
            <p:nvPr/>
          </p:nvPicPr>
          <p:blipFill>
            <a:blip r:embed="rId4"/>
            <a:stretch/>
          </p:blipFill>
          <p:spPr>
            <a:xfrm>
              <a:off x="6138720" y="5089680"/>
              <a:ext cx="250524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429240" y="5357880"/>
              <a:ext cx="1928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8" name="Picture 20" descr="Анимация Стрелки"/>
          <p:cNvPicPr/>
          <p:nvPr/>
        </p:nvPicPr>
        <p:blipFill>
          <a:blip r:embed="rId5"/>
          <a:stretch/>
        </p:blipFill>
        <p:spPr>
          <a:xfrm>
            <a:off x="785880" y="5286240"/>
            <a:ext cx="428400" cy="438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Анимация Стрелки"/>
          <p:cNvPicPr/>
          <p:nvPr/>
        </p:nvPicPr>
        <p:blipFill>
          <a:blip r:embed="rId6"/>
          <a:stretch/>
        </p:blipFill>
        <p:spPr>
          <a:xfrm>
            <a:off x="6500880" y="5286240"/>
            <a:ext cx="428400" cy="438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http://s18.rimg.info/9ac07dee6a4539259175642746a07522.gif"/>
          <p:cNvPicPr/>
          <p:nvPr/>
        </p:nvPicPr>
        <p:blipFill>
          <a:blip r:embed="rId7"/>
          <a:stretch/>
        </p:blipFill>
        <p:spPr>
          <a:xfrm>
            <a:off x="2143080" y="621504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MCj04326400000[1]"/>
          <p:cNvPicPr/>
          <p:nvPr/>
        </p:nvPicPr>
        <p:blipFill>
          <a:blip r:embed="rId8"/>
          <a:stretch/>
        </p:blipFill>
        <p:spPr>
          <a:xfrm>
            <a:off x="6215040" y="1214280"/>
            <a:ext cx="233676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95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750"/>
                            </p:stCondLst>
                            <p:childTnLst>
                              <p:par>
                                <p:cTn id="7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25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2728800" y="2809800"/>
            <a:ext cx="3684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1285920" y="571680"/>
            <a:ext cx="7010280" cy="22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80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cc0000"/>
                  </a:solidFill>
                  <a:miter/>
                </a:ln>
                <a:solidFill>
                  <a:srgbClr val="ff99cc"/>
                </a:solidFill>
                <a:latin typeface="Monotype Corsiva"/>
              </a:rPr>
              <a:t>Спасибо за внимание!</a:t>
            </a:r>
            <a:endParaRPr b="1" lang="en-US" sz="1800" spc="1" strike="noStrike">
              <a:ln w="15840">
                <a:solidFill>
                  <a:srgbClr val="cc0000"/>
                </a:solidFill>
                <a:miter/>
              </a:ln>
              <a:solidFill>
                <a:srgbClr val="ff99cc"/>
              </a:solidFill>
              <a:latin typeface="Monotype Corsiva"/>
              <a:ea typeface="Monotype Corsiv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371600" y="228600"/>
            <a:ext cx="7099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Group 6" descr=""/>
          <p:cNvPicPr/>
          <p:nvPr/>
        </p:nvPicPr>
        <p:blipFill>
          <a:blip r:embed="rId1"/>
          <a:stretch/>
        </p:blipFill>
        <p:spPr>
          <a:xfrm>
            <a:off x="-12600" y="5894280"/>
            <a:ext cx="9229680" cy="66528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10"/>
          <p:cNvSpPr/>
          <p:nvPr/>
        </p:nvSpPr>
        <p:spPr>
          <a:xfrm>
            <a:off x="285840" y="1928880"/>
            <a:ext cx="82868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добно тому как все искусства тяготеют к музыке, все науки стремятся к математик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onotype Corsiva"/>
              </a:rPr>
              <a:t>Джордж Сантая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з дома реальности легко забрести в лес математики, но лишь немногие способны вернуться обратн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Хуго Штейнхаус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Трудность решения в какой-то мере входит в само понятие задачи: там, где нет трудности, нет и задач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Monotype Corsiva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Недостаточно только получить знания: надо найти им прилож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Monotype Corsiva"/>
              </a:rPr>
              <a:t>И. Гет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Picture 8" descr="http://s18.rimg.info/9ac07dee6a4539259175642746a07522.gif"/>
          <p:cNvPicPr/>
          <p:nvPr/>
        </p:nvPicPr>
        <p:blipFill>
          <a:blip r:embed="rId2"/>
          <a:stretch/>
        </p:blipFill>
        <p:spPr>
          <a:xfrm>
            <a:off x="2143080" y="564372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0" descr="http://animashky.ru/flist/obprirod/3/6.gif"/>
          <p:cNvPicPr/>
          <p:nvPr/>
        </p:nvPicPr>
        <p:blipFill>
          <a:blip r:embed="rId3"/>
          <a:stretch/>
        </p:blipFill>
        <p:spPr>
          <a:xfrm>
            <a:off x="7429680" y="14292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0" descr="http://animashky.ru/flist/obprirod/3/6.gif"/>
          <p:cNvPicPr/>
          <p:nvPr/>
        </p:nvPicPr>
        <p:blipFill>
          <a:blip r:embed="rId4"/>
          <a:stretch/>
        </p:blipFill>
        <p:spPr>
          <a:xfrm>
            <a:off x="1285920" y="1429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0" descr="http://animashky.ru/flist/obprirod/3/6.gif"/>
          <p:cNvPicPr/>
          <p:nvPr/>
        </p:nvPicPr>
        <p:blipFill>
          <a:blip r:embed="rId5"/>
          <a:stretch/>
        </p:blipFill>
        <p:spPr>
          <a:xfrm>
            <a:off x="4429080" y="55008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4" descr="http://animashky.ru/flist/obprirod/3/34.gif"/>
          <p:cNvPicPr/>
          <p:nvPr/>
        </p:nvPicPr>
        <p:blipFill>
          <a:blip r:embed="rId6"/>
          <a:stretch/>
        </p:blipFill>
        <p:spPr>
          <a:xfrm>
            <a:off x="2071800" y="1429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4" descr="http://animashky.ru/flist/obprirod/3/34.gif"/>
          <p:cNvPicPr/>
          <p:nvPr/>
        </p:nvPicPr>
        <p:blipFill>
          <a:blip r:embed="rId7"/>
          <a:stretch/>
        </p:blipFill>
        <p:spPr>
          <a:xfrm>
            <a:off x="6715080" y="71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4" descr="http://animashky.ru/flist/obprirod/3/34.gif"/>
          <p:cNvPicPr/>
          <p:nvPr/>
        </p:nvPicPr>
        <p:blipFill>
          <a:blip r:embed="rId8"/>
          <a:stretch/>
        </p:blipFill>
        <p:spPr>
          <a:xfrm>
            <a:off x="7429680" y="13572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4" descr="http://animashky.ru/flist/obprirod/3/34.gif"/>
          <p:cNvPicPr/>
          <p:nvPr/>
        </p:nvPicPr>
        <p:blipFill>
          <a:blip r:embed="rId9"/>
          <a:stretch/>
        </p:blipFill>
        <p:spPr>
          <a:xfrm>
            <a:off x="1785960" y="1357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http://s7.rimg.info/449ac5d7628eb7e14d52540be0e840dc.gif"/>
          <p:cNvPicPr/>
          <p:nvPr/>
        </p:nvPicPr>
        <p:blipFill>
          <a:blip r:embed="rId10"/>
          <a:stretch/>
        </p:blipFill>
        <p:spPr>
          <a:xfrm>
            <a:off x="8001000" y="142920"/>
            <a:ext cx="893880" cy="857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http://s7.rimg.info/449ac5d7628eb7e14d52540be0e840dc.gif"/>
          <p:cNvPicPr/>
          <p:nvPr/>
        </p:nvPicPr>
        <p:blipFill>
          <a:blip r:embed="rId11"/>
          <a:stretch/>
        </p:blipFill>
        <p:spPr>
          <a:xfrm>
            <a:off x="195120" y="195120"/>
            <a:ext cx="927360" cy="890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8" descr="http://s2.rimg.info/0176d19d0fd8be1c1560eeb25ebe6e57.gif"/>
          <p:cNvPicPr/>
          <p:nvPr/>
        </p:nvPicPr>
        <p:blipFill>
          <a:blip r:embed="rId12"/>
          <a:stretch/>
        </p:blipFill>
        <p:spPr>
          <a:xfrm>
            <a:off x="3214800" y="928800"/>
            <a:ext cx="2962080" cy="76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1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0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2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500"/>
                            </p:stCondLst>
                            <p:childTnLst>
                              <p:par>
                                <p:cTn id="7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45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500"/>
                            </p:stCondLst>
                            <p:childTnLst>
                              <p:par>
                                <p:cTn id="8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600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6500"/>
                            </p:stCondLst>
                            <p:childTnLst>
                              <p:par>
                                <p:cTn id="8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000"/>
                            </p:stCondLst>
                            <p:childTnLst>
                              <p:par>
                                <p:cTn id="8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7500"/>
                            </p:stCondLst>
                            <p:childTnLst>
                              <p:par>
                                <p:cTn id="8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Актуальность и новизна разработки кур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е больше специальностей, требующих высокого уровня образования, связано с непосредственным применением математики (экономика, бизнес, финансы, физика, химия, техника, информатика, биология, психология и многое другое). Таким образом, расширяется круг школьников, для которых математика становится профессионально значимым предметом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ктуальность данной работы в том, что курс позволяет сократить разрыв между требованиями, предъявляемыми к выпускнику при выполнении заданий итоговой аттестации и школьной программой, между возрастающей практической значимостью школьного курса математики и дефицитом учебного времени, решать вопросы нарушения преемственности между школой и  ВУЗ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визна курса состоит в  реализации личностно-ориентированного учебного процесса, который создает реальные условия для выбора школьниками индивидуального пути обучения, его самоопределения, самореализацию и социальную адаптацию, а также в дополнительной специализированной подготовке старшеклассников для прохождения вступительных испытаний и дальнейшего образования в технических вуз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14308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7143840" y="8571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1714680" y="85716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2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70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20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труктура програм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214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858080" y="21420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23" name="Управляющая кнопка: настраиваемая 7"/>
          <p:cNvGrpSpPr/>
          <p:nvPr/>
        </p:nvGrpSpPr>
        <p:grpSpPr>
          <a:xfrm>
            <a:off x="2567160" y="1878120"/>
            <a:ext cx="5003640" cy="1004760"/>
            <a:chOff x="2567160" y="1878120"/>
            <a:chExt cx="5003640" cy="1004760"/>
          </a:xfrm>
        </p:grpSpPr>
        <p:pic>
          <p:nvPicPr>
            <p:cNvPr id="124" name="Управляющая кнопка: настраиваемая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567160" y="1878120"/>
              <a:ext cx="50036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857680" y="2143080"/>
              <a:ext cx="4429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Monotype Corsiva"/>
                </a:rPr>
                <a:t>Пояснительная записк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Управляющая кнопка: настраиваемая 8"/>
          <p:cNvGrpSpPr/>
          <p:nvPr/>
        </p:nvGrpSpPr>
        <p:grpSpPr>
          <a:xfrm>
            <a:off x="2567160" y="2730600"/>
            <a:ext cx="5003640" cy="1012680"/>
            <a:chOff x="2567160" y="2730600"/>
            <a:chExt cx="5003640" cy="1012680"/>
          </a:xfrm>
        </p:grpSpPr>
        <p:pic>
          <p:nvPicPr>
            <p:cNvPr id="127" name="Управляющая кнопка: настраиваемая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567160" y="2730600"/>
              <a:ext cx="500364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857680" y="3000240"/>
              <a:ext cx="4429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Monotype Corsiva"/>
                </a:rPr>
                <a:t>Содержание программ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9" name="Управляющая кнопка: настраиваемая 9"/>
          <p:cNvGrpSpPr/>
          <p:nvPr/>
        </p:nvGrpSpPr>
        <p:grpSpPr>
          <a:xfrm>
            <a:off x="2633760" y="3591000"/>
            <a:ext cx="5010120" cy="1004760"/>
            <a:chOff x="2633760" y="3591000"/>
            <a:chExt cx="5010120" cy="1004760"/>
          </a:xfrm>
        </p:grpSpPr>
        <p:pic>
          <p:nvPicPr>
            <p:cNvPr id="130" name="Управляющая кнопка: настраиваемая 9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2633760" y="3591000"/>
              <a:ext cx="50101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928960" y="3857760"/>
              <a:ext cx="44290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Monotype Corsiva"/>
                </a:rPr>
                <a:t>Учебно-тематический план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Управляющая кнопка: настраиваемая 10"/>
          <p:cNvGrpSpPr/>
          <p:nvPr/>
        </p:nvGrpSpPr>
        <p:grpSpPr>
          <a:xfrm>
            <a:off x="2633760" y="4376880"/>
            <a:ext cx="5010120" cy="1006200"/>
            <a:chOff x="2633760" y="4376880"/>
            <a:chExt cx="5010120" cy="1006200"/>
          </a:xfrm>
        </p:grpSpPr>
        <p:pic>
          <p:nvPicPr>
            <p:cNvPr id="133" name="Управляющая кнопка: настраиваемая 1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2633760" y="4376880"/>
              <a:ext cx="50101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928960" y="4643280"/>
              <a:ext cx="4429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Monotype Corsiva"/>
                </a:rPr>
                <a:t>Литератур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Управляющая кнопка: настраиваемая 11"/>
          <p:cNvGrpSpPr/>
          <p:nvPr/>
        </p:nvGrpSpPr>
        <p:grpSpPr>
          <a:xfrm>
            <a:off x="2633760" y="5162400"/>
            <a:ext cx="5010120" cy="1006560"/>
            <a:chOff x="2633760" y="5162400"/>
            <a:chExt cx="5010120" cy="1006560"/>
          </a:xfrm>
        </p:grpSpPr>
        <p:pic>
          <p:nvPicPr>
            <p:cNvPr id="136" name="Управляющая кнопка: настраиваемая 11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633760" y="5162400"/>
              <a:ext cx="50101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928960" y="5429160"/>
              <a:ext cx="4429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Monotype Corsiva"/>
                </a:rPr>
                <a:t>Приложения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38" name="Picture 24" descr="http://li-web.ru/"/>
          <p:cNvPicPr/>
          <p:nvPr/>
        </p:nvPicPr>
        <p:blipFill>
          <a:blip r:embed="rId14"/>
          <a:stretch/>
        </p:blipFill>
        <p:spPr>
          <a:xfrm>
            <a:off x="2071800" y="5572080"/>
            <a:ext cx="361800" cy="295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http://li-web.ru/"/>
          <p:cNvPicPr/>
          <p:nvPr/>
        </p:nvPicPr>
        <p:blipFill>
          <a:blip r:embed="rId15"/>
          <a:stretch/>
        </p:blipFill>
        <p:spPr>
          <a:xfrm>
            <a:off x="2071800" y="4714920"/>
            <a:ext cx="361800" cy="295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4" descr="http://li-web.ru/"/>
          <p:cNvPicPr/>
          <p:nvPr/>
        </p:nvPicPr>
        <p:blipFill>
          <a:blip r:embed="rId16"/>
          <a:stretch/>
        </p:blipFill>
        <p:spPr>
          <a:xfrm>
            <a:off x="2071800" y="3929040"/>
            <a:ext cx="361800" cy="29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4" descr="http://li-web.ru/"/>
          <p:cNvPicPr/>
          <p:nvPr/>
        </p:nvPicPr>
        <p:blipFill>
          <a:blip r:embed="rId17"/>
          <a:stretch/>
        </p:blipFill>
        <p:spPr>
          <a:xfrm>
            <a:off x="2071800" y="3071880"/>
            <a:ext cx="361800" cy="295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4" descr="http://li-web.ru/"/>
          <p:cNvPicPr/>
          <p:nvPr/>
        </p:nvPicPr>
        <p:blipFill>
          <a:blip r:embed="rId18"/>
          <a:stretch/>
        </p:blipFill>
        <p:spPr>
          <a:xfrm>
            <a:off x="2066760" y="2214720"/>
            <a:ext cx="362160" cy="295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8" descr="http://prezentazia.ucoz.ru/skola/0_8f5fb_c5e81df9_S.png"/>
          <p:cNvPicPr/>
          <p:nvPr/>
        </p:nvPicPr>
        <p:blipFill>
          <a:blip r:embed="rId19"/>
          <a:stretch/>
        </p:blipFill>
        <p:spPr>
          <a:xfrm>
            <a:off x="428760" y="2286000"/>
            <a:ext cx="140472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44" name="Управляющая кнопка: настраиваемая 16"/>
          <p:cNvGrpSpPr/>
          <p:nvPr/>
        </p:nvGrpSpPr>
        <p:grpSpPr>
          <a:xfrm>
            <a:off x="6778800" y="5730840"/>
            <a:ext cx="2511360" cy="938160"/>
            <a:chOff x="6778800" y="5730840"/>
            <a:chExt cx="2511360" cy="938160"/>
          </a:xfrm>
        </p:grpSpPr>
        <p:pic>
          <p:nvPicPr>
            <p:cNvPr id="145" name="Управляющая кнопка: настраиваемая 16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6778800" y="5730840"/>
              <a:ext cx="2511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072200" y="6000840"/>
              <a:ext cx="1928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7" name="Picture 20" descr="Анимация Стрелки"/>
          <p:cNvPicPr/>
          <p:nvPr/>
        </p:nvPicPr>
        <p:blipFill>
          <a:blip r:embed="rId22"/>
          <a:stretch/>
        </p:blipFill>
        <p:spPr>
          <a:xfrm>
            <a:off x="7072200" y="5929200"/>
            <a:ext cx="4287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35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85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35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85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35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85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35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85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35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850"/>
                            </p:stCondLst>
                            <p:childTnLst>
                              <p:par>
                                <p:cTn id="2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350"/>
                            </p:stCondLst>
                            <p:childTnLst>
                              <p:par>
                                <p:cTn id="2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85840" y="2017800"/>
          <a:ext cx="8669160" cy="4054320"/>
        </p:xfrm>
        <a:graphic>
          <a:graphicData uri="http://schemas.openxmlformats.org/drawingml/2006/table">
            <a:tbl>
              <a:tblPr/>
              <a:tblGrid>
                <a:gridCol w="1789200"/>
                <a:gridCol w="687996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чины введения 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лективный курс призван решить проблему углубленного изучения  отдельных тем математики. выстраивает индивидуально-образовательную траекторию учащегося, ориентирован на профильную подготовку учащихся, предполагает подготовку учащихся к продолжению образования в ВУЗах технической и экономической направленности, к участию в олимпиадах, конкурсах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ответствие Государствен-ному образователь-ному стандар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лагаемый курс соответствует: современным целям среднего (полного) образования; основным положениям концепции профильного обучения; перспективным целям математического образования в школе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Данная программа построена в соответствии с требованиями Государственного образовательного стандарта по математике и рекомендациями примерной программы по предмету и в соответствии с программой по математике для поступающих во втузы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214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858080" y="21420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53" name="Управляющая кнопка: настраиваемая 8"/>
          <p:cNvGrpSpPr/>
          <p:nvPr/>
        </p:nvGrpSpPr>
        <p:grpSpPr>
          <a:xfrm>
            <a:off x="7851600" y="5950080"/>
            <a:ext cx="1152720" cy="1004760"/>
            <a:chOff x="7851600" y="5950080"/>
            <a:chExt cx="1152720" cy="1004760"/>
          </a:xfrm>
        </p:grpSpPr>
        <p:pic>
          <p:nvPicPr>
            <p:cNvPr id="154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851600" y="5950080"/>
              <a:ext cx="11527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143920" y="6215040"/>
              <a:ext cx="571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6" name="Picture 24" descr="http://li-web.ru/"/>
          <p:cNvPicPr/>
          <p:nvPr/>
        </p:nvPicPr>
        <p:blipFill>
          <a:blip r:embed="rId5"/>
          <a:stretch/>
        </p:blipFill>
        <p:spPr>
          <a:xfrm>
            <a:off x="8286840" y="6286680"/>
            <a:ext cx="361800" cy="295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45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4292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857680" y="6357960"/>
            <a:ext cx="3743280" cy="276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-712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786800" y="-71280"/>
            <a:ext cx="95256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285840" y="2071800"/>
          <a:ext cx="8501040" cy="4214880"/>
        </p:xfrm>
        <a:graphic>
          <a:graphicData uri="http://schemas.openxmlformats.org/drawingml/2006/table">
            <a:tbl>
              <a:tblPr/>
              <a:tblGrid>
                <a:gridCol w="1143000"/>
                <a:gridCol w="7358040"/>
              </a:tblGrid>
              <a:tr h="42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чи 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     Систематизация, расширение и углубление  математических зн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воение аппарата уравнений и неравенств, как основного средства математического моделирования прикладных зада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учение методов решения планиметрических зада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зация по методам решений всех типов задач по тригонометр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учение свойств геометрических тел в пространстве, развитие пространственных представлений учащихся, усвоение способов вычисления практически важных геометрических величин и дальнейшее развитие логического мышления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учение функций как важнейшего математического объекта средствами алгебры и математического анализа, раскрытие  политехнического и прикладного значения общих методов математики, связанных с исследованием функ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Овладение научной терминологией, эффективное её использование; применение знаний в нестандартных и проблемных ситуац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 Интеллектуальное развитие учащихся, формирование логических навыков выделения главного, сравнения, анализа, синтеза, обобщения, систематизации, абстрагирования. Владение рациональными приёмами работы и навыками самоконтро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Заголовок 1"/>
          <p:cNvSpPr/>
          <p:nvPr/>
        </p:nvSpPr>
        <p:spPr>
          <a:xfrm>
            <a:off x="1214280" y="785880"/>
            <a:ext cx="7793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Цель курса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гарантированного качества подготовки выпускников для поступления в вуз и продолжения образования, а также к профессиональной деятельности, требующей высокой математической культуры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Управляющая кнопка: настраиваемая 8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164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6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85840" y="2017800"/>
          <a:ext cx="8669160" cy="4206960"/>
        </p:xfrm>
        <a:graphic>
          <a:graphicData uri="http://schemas.openxmlformats.org/drawingml/2006/table">
            <a:tbl>
              <a:tblPr/>
              <a:tblGrid>
                <a:gridCol w="1643040"/>
                <a:gridCol w="7026120"/>
              </a:tblGrid>
              <a:tr h="50328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рес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нная программа курса адресована учащимс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11 класс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а также учителям матема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368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обенности программ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лагаемый курс является школьной вариативной составляющей математического образования для учащихся, имеющих склонности к предмету и желающих пополнить базовые знания с целью поступления в ВТУЗы. Активизация учебно-познавательной деятельности, направленной на личностное развитие каждого ученика, формирование и развитие ключевых и предметных компетенций обеспечивает примене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ачи материала крупными блоками (применением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гральной технолог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кционно-семинарской системы обуч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ормационно-коммуникационных технолог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ференцированного обуч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следовательского метода в обучен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лемного обуч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ии деятельностного метода, позволяющей выявлять познавательные интересы и способности школьник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чностно-ориентированого обучения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у программы составляют задачи из сборников [6] и  [9]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858080" y="0"/>
            <a:ext cx="95256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1643040" y="1000080"/>
          <a:ext cx="6095880" cy="743040"/>
        </p:xfrm>
        <a:graphic>
          <a:graphicData uri="http://schemas.openxmlformats.org/drawingml/2006/table">
            <a:tbl>
              <a:tblPr/>
              <a:tblGrid>
                <a:gridCol w="2786040"/>
                <a:gridCol w="3309840"/>
              </a:tblGrid>
              <a:tr h="37152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 реализации програм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час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3" name="Управляющая кнопка: настраиваемая 8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174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6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85840" y="2017800"/>
          <a:ext cx="8669160" cy="4174920"/>
        </p:xfrm>
        <a:graphic>
          <a:graphicData uri="http://schemas.openxmlformats.org/drawingml/2006/table">
            <a:tbl>
              <a:tblPr/>
              <a:tblGrid>
                <a:gridCol w="1071360"/>
                <a:gridCol w="7597800"/>
              </a:tblGrid>
              <a:tr h="263664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-ции учеб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ы, применяемые на занятиях, подобраны в соответствии с содержанием курса, особенностями тематики и органично сочетают следующие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ции учебного процесс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кци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минары- практикум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личные формы индивидуальной и групповой деятельности учащихс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ь качества знаний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учно-исследовательская рабо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процессе преподавания элективного курса важным компонентом являются 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обуч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бно-методическое обеспечение программы (специальная справочная литература, сборники задач, раздаточный и дидактический материалы, набор КИМов ЕГЭ прошлых лет, образцы заданий олимпиадных заданий  по математике и письменных вступительных экзаменов для абитуриентов, поступающих в технические ВУЗы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глядные пособия (плакаты, графики, таблицы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нные образовательные ресурсы (мультимедийные средства обучени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82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чё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 освоения курса предусматриваются следующие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отчетност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ашние задани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стоятельные 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кущие и итоговые тест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ашние контрольные работ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учно- исследовательские проект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итогу курса проводится защита групповых и индивидуальных заданий исследовательского типа, рефератов и творческих проектов с подготовкой презентац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500120" y="214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929720" y="214200"/>
            <a:ext cx="952200" cy="952560"/>
          </a:xfrm>
          <a:prstGeom prst="rect">
            <a:avLst/>
          </a:prstGeom>
          <a:ln w="0">
            <a:noFill/>
          </a:ln>
        </p:spPr>
      </p:pic>
      <p:grpSp>
        <p:nvGrpSpPr>
          <p:cNvPr id="182" name="Управляющая кнопка: настраиваемая 8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183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85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14200" y="2017800"/>
          <a:ext cx="8740800" cy="4282920"/>
        </p:xfrm>
        <a:graphic>
          <a:graphicData uri="http://schemas.openxmlformats.org/drawingml/2006/table">
            <a:tbl>
              <a:tblPr/>
              <a:tblGrid>
                <a:gridCol w="1071720"/>
                <a:gridCol w="7669080"/>
              </a:tblGrid>
              <a:tr h="428292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ультат обуч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ультат обучения на курсе выражается в повышение математической культуры, в проявлении умения осуществлять исследовательскую деятельность и применять полученные знания для решения практических зад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ования к математической подготов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щиеся должны знать и правильно употреблять термины «уравнение», «неравенство», «система», «совокупность», «модуль», «параметр», «логарифм», «функция», «асимптота», «экстремум»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методы решения уравн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основные теоремы и формулы планиметрии и стереометр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основные формулы тригонометрии и простейшие тригонометрические уравн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основные формулы арифметической и геометрической прогресс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свойства логарифмов и свойства показательной фун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алгоритм исследования фун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ь решать алгебраические, тригонометрические, показательные и логарифмические уравнения и неравен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ь решать системы уравнений и системы неравенст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ь находить наибольшие и наименьшие значения функц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ь изображать на рисунках и чертежах геометрические фигуры, задаваемые условиями задач;  проводить полные обоснования при решении задач;  применять основные методы решения геометрических задач: поэтапного решения и составления уравн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гически мыслить, рассуждать, выдвигать гипотезы, делать выводы, обосновывать полученные результа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ть с различными источниками информ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Picture 36" descr="http://animashky.ru/flist/obprirod/3/19.gif"/>
          <p:cNvPicPr/>
          <p:nvPr/>
        </p:nvPicPr>
        <p:blipFill>
          <a:blip r:embed="rId1"/>
          <a:stretch/>
        </p:blipFill>
        <p:spPr>
          <a:xfrm>
            <a:off x="1428840" y="142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7786800" y="214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s18.rimg.info/9ac07dee6a4539259175642746a07522.gif"/>
          <p:cNvPicPr/>
          <p:nvPr/>
        </p:nvPicPr>
        <p:blipFill>
          <a:blip r:embed="rId3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grpSp>
        <p:nvGrpSpPr>
          <p:cNvPr id="191" name="Управляющая кнопка: настраиваемая 8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192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94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85840" y="2017800"/>
          <a:ext cx="8669160" cy="1782720"/>
        </p:xfrm>
        <a:graphic>
          <a:graphicData uri="http://schemas.openxmlformats.org/drawingml/2006/table">
            <a:tbl>
              <a:tblPr/>
              <a:tblGrid>
                <a:gridCol w="1928880"/>
                <a:gridCol w="6740280"/>
              </a:tblGrid>
              <a:tr h="178272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 качества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 качества деятельности обучающегося проводится методом модульно-рейтинговой системы контроля достижений. Качество знаний учащихся обеспечивается регулярностью их работы в течение всего периода обучения. Текущие оценки переводятся учителем в баллы и складываются в итоговый показатель качества освоения курса. За выполнение индивидуальных работ в форме сообщений, докладов, рефератов и заданий повышенной сложности ученики получают дополнительные балл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7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142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858080" y="214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Анимация Стрелки"/>
          <p:cNvPicPr/>
          <p:nvPr/>
        </p:nvPicPr>
        <p:blipFill>
          <a:blip r:embed="rId4"/>
          <a:stretch/>
        </p:blipFill>
        <p:spPr>
          <a:xfrm>
            <a:off x="4572000" y="5929200"/>
            <a:ext cx="1143000" cy="238320"/>
          </a:xfrm>
          <a:prstGeom prst="rect">
            <a:avLst/>
          </a:prstGeom>
          <a:ln w="0">
            <a:noFill/>
          </a:ln>
        </p:spPr>
      </p:pic>
      <p:grpSp>
        <p:nvGrpSpPr>
          <p:cNvPr id="201" name="Управляющая кнопка: настраиваемая 8"/>
          <p:cNvGrpSpPr/>
          <p:nvPr/>
        </p:nvGrpSpPr>
        <p:grpSpPr>
          <a:xfrm>
            <a:off x="5492880" y="5589720"/>
            <a:ext cx="3724200" cy="1006200"/>
            <a:chOff x="5492880" y="5589720"/>
            <a:chExt cx="3724200" cy="1006200"/>
          </a:xfrm>
        </p:grpSpPr>
        <p:pic>
          <p:nvPicPr>
            <p:cNvPr id="202" name="Управляющая кнопка: настраиваемая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492880" y="5589720"/>
              <a:ext cx="372420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786280" y="5857920"/>
              <a:ext cx="314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Структура програм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strips dir="r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5:57:52Z</dcterms:created>
  <dc:creator/>
  <dc:description/>
  <dc:language>en-US</dc:language>
  <cp:lastModifiedBy>Маша Боярская</cp:lastModifiedBy>
  <dcterms:modified xsi:type="dcterms:W3CDTF">2013-03-30T21:31:35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